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69F-4A14-4D5E-B363-3F209A92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4A1-6BB3-478B-8958-7B46AD19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A34-6E92-4C78-9982-D062AFCA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1A0-A163-4AF6-A3BE-698284E4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A25-7498-4723-9331-0E29A2B1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80B-D865-47FE-B51A-BB6C4083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40B-799F-4436-9254-3CCD965D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62E-67D2-4016-8B9E-2E432633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B26-A7A0-4BC6-ACA1-C08310B2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095-FF20-49EF-90F6-755A9C55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9F7-3CFC-4C6A-B763-D766B07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265-6868-49D2-87EA-FF45B968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CE9F-6BA6-4ACD-A23F-3ADC40A53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05080" y="2200320"/>
          <a:ext cx="2647800" cy="19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5080" y="2200320"/>
                    <a:ext cx="264780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021720" y="25884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2867040" y="4057560"/>
            <a:ext cx="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381480" y="405756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886200" y="405756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00640" y="405756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352600" y="39434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352600" y="3743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352600" y="35528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52600" y="337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352600" y="31910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52600" y="30002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352600" y="28004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52600" y="26193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52600" y="2428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90280" y="4419720"/>
            <a:ext cx="174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s Post Anthesis (DP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770400" y="3053160"/>
            <a:ext cx="21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verage fresh weight/kernel (m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0756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2200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2672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3180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36520" y="421632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0920" y="4216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68920" y="40356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21760" y="36576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4600" y="214632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18520" y="32828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1760" y="29084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18520" y="253368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29760" y="22860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828800" y="1654200"/>
            <a:ext cx="3453480" cy="2691720"/>
            <a:chOff x="1828800" y="1654200"/>
            <a:chExt cx="3453480" cy="2691720"/>
          </a:xfrm>
        </p:grpSpPr>
        <p:graphicFrame>
          <p:nvGraphicFramePr>
            <p:cNvPr id="73" name=""/>
            <p:cNvGraphicFramePr/>
            <p:nvPr/>
          </p:nvGraphicFramePr>
          <p:xfrm>
            <a:off x="2282760" y="1695600"/>
            <a:ext cx="2936880" cy="222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2760" y="1695600"/>
                      <a:ext cx="2936880" cy="22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 flipV="1">
              <a:off x="291636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48624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04640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616280" y="3772080"/>
              <a:ext cx="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344680" y="341964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344680" y="300528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344680" y="258912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344680" y="216360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3440" y="4114800"/>
              <a:ext cx="160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ays Post Anthesis (DPA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948600" y="2705760"/>
              <a:ext cx="199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verage fresh weight/kernel (mg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3924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0912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6964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3016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88880" y="3886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0040" y="388620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22920" y="3746520"/>
              <a:ext cx="23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66400" y="332424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09520" y="1654200"/>
              <a:ext cx="349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66400" y="290520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66400" y="248616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66400" y="206676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29760" y="22860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2760" y="1695600"/>
          <a:ext cx="2936880" cy="222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1695600"/>
                    <a:ext cx="293688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62000" y="4114800"/>
            <a:ext cx="152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ys Post Anthesis (DP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1007280" y="2763720"/>
            <a:ext cx="187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erage fresh weight/kernel (m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896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3792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872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860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88880" y="3886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10040" y="3886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22920" y="3746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66400" y="332424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09520" y="1673280"/>
            <a:ext cx="34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66400" y="29052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66400" y="24861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66400" y="20667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4680" y="342900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3240" y="300996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41440" y="259092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217188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14560" y="38098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86240" y="38098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38480" y="38116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10160" y="3811680"/>
            <a:ext cx="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7:55:15Z</dcterms:created>
  <dc:creator>Registered User</dc:creator>
  <dc:description/>
  <dc:language>en-US</dc:language>
  <cp:lastModifiedBy>Office 2003 Registered User</cp:lastModifiedBy>
  <dcterms:modified xsi:type="dcterms:W3CDTF">2007-10-05T16:06:49Z</dcterms:modified>
  <cp:revision>29</cp:revision>
  <dc:subject/>
  <dc:title>PowerPoint Presentation</dc:title>
</cp:coreProperties>
</file>